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7749-9E68-4444-B815-4E410E145C8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FDF7-D5F8-47E1-BDB0-EFB198800D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74D6-28CD-4727-BC2D-249230FBF4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62CB-6853-45C8-A63E-E69442BDE0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BBCA-3113-4B83-8422-B3DF64BE62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A7DE-56E3-4AE4-9B59-77E60B2FAC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5285-051D-4DD7-A0DF-96481C0C2F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6767-9183-4C3F-93FD-9218C09610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6151-757A-4F8E-A694-009D9A6BDEE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55A8-2859-4B43-8876-8FECCB9AAD4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4F64-ADAB-47AE-9DF3-390D442138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24CF-E292-4B84-91DC-C1BC22B34C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A235-70B6-4C1C-A550-E93D13BE13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E853-701F-4D08-A8BB-2BE39557D2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1001-6450-4D33-B675-06AE5DB0CE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6166-B2AD-48C1-B8DC-F6CCC6B3A4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40F5-605F-4F59-875C-E471E3BB1E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43277-29C5-4B43-937B-F2BD3A83C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5D29-A5AE-444E-A515-96949EEA4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666FA-11D2-47C2-A342-7D43A2CF9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1C0A-E2B1-460F-A97E-6935A27B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B0750-7281-44DB-A567-69AC45510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0182B-4FC0-44EE-9E2F-DD3B7C5C7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4CFF0-55D8-4D2D-A905-64B6EB2A6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FB707-E559-40B0-BE00-E529567C0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F9127-AB27-45CD-B6FF-B56D9F40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EAB08-8099-4F6B-8522-500C2578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03EAC-49F1-411B-9913-EE1A50336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63D7D-5D9D-415D-97E8-C7A5E212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69466-D1EC-4648-A3CE-574132D4C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84B19-9ECF-4CBF-A917-3FD1C1A97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355B-FBED-49F5-B987-C97412AF8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6A0AC-7351-4534-8D76-D48B8D252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14842-ECA5-4A47-9DFC-0F08A7224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3C856-916A-4356-AE2A-A93164F69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7871-BC74-45A9-8477-942BBE39B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AE5F-0B55-4AB5-90A2-F3F64943C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C2B1E-6743-4F90-AB9E-6F370B233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3B4E-2CCD-4007-87B5-8454E5BB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42D1-CC1E-408B-8709-AEB0622A8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992B-092C-4327-B103-A032CAD07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C860-824A-49F8-BCEA-97CCB578159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8F63-A33E-48BB-BDBF-8FCE4280C5D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	</a:t>
            </a:r>
            <a:r>
              <a:rPr b="1" lang="en-GB" sz="3200" spc="-1" strike="noStrike">
                <a:solidFill>
                  <a:srgbClr val="ffd624"/>
                </a:solidFill>
                <a:latin typeface="Arial Black"/>
              </a:rPr>
              <a:t>Módulo 3</a:t>
            </a:r>
            <a:br>
              <a:rPr sz="3200"/>
            </a:br>
            <a:r>
              <a:rPr b="1" lang="en-GB" sz="3200" spc="-1" strike="noStrike">
                <a:solidFill>
                  <a:srgbClr val="ffd624"/>
                </a:solidFill>
                <a:latin typeface="Arial Black"/>
              </a:rPr>
              <a:t>Entender y planificar </a:t>
            </a:r>
            <a:br>
              <a:rPr sz="3200"/>
            </a:br>
            <a:r>
              <a:rPr b="1" lang="en-GB" sz="3200" spc="-1" strike="noStrike">
                <a:solidFill>
                  <a:srgbClr val="ffd624"/>
                </a:solidFill>
                <a:latin typeface="Arial Black"/>
              </a:rPr>
              <a:t>bajo la incertidumbre</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coste de la inacció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 menudo, se suele recurrir a las incertidumbres relacionadas con el cambio climático para justificar la inacció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in embargo, la actual inacción tendrá un coste mayor a medio y largo plazo:</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81B4-E413-4F66-B9DD-B7FE45CB8B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Inversión desaprovechada</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Mayor vulnerabilidad</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capacidad de adaptación</a:t>
            </a:r>
            <a:endParaRPr b="0" lang="en-US" sz="2000" spc="-1" strike="noStrike">
              <a:solidFill>
                <a:srgbClr val="0f5494"/>
              </a:solidFill>
              <a:latin typeface="Verdana"/>
            </a:endParaRPr>
          </a:p>
        </p:txBody>
      </p:sp>
      <p:sp>
        <p:nvSpPr>
          <p:cNvPr id="159" name="Rounded Rectangle 6"/>
          <p:cNvSpPr/>
          <p:nvPr/>
        </p:nvSpPr>
        <p:spPr>
          <a:xfrm>
            <a:off x="4722840" y="4869000"/>
            <a:ext cx="3733920" cy="115236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Impactos más perjudiciale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Verdana"/>
              </a:rPr>
              <a:t>* Costes de adaptación más elevado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Incapacidad de reducir las emisione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os beneficios de la acció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e espera que algunas medidas de adaptación y mitigación del cambio climático proporcionen beneficios de desarrollo, independientemente del alcance y la magnitud del cambio climático o, en lo que respecta a la mitigación, independientemente de los precios del carbono</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cluso a pesar de la incertidumbre, algunos tipos de medidas tienen justificación</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02DB-DB71-4AE0-ADD8-6DE9A4C322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edidas justificadas a pesar de la incertidumbre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no-regret" (sin arrepentimiento):</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quellas de las que se espera que produzcan beneficios netos para la sociedad, incluso sin la existencia de cambio climático (adaptación) o independientemente de una "recompensa" por la mitigación (coste neto cero o negativo a precio cero del carbono)</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low-regret" (de poco arrepentimiento):</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quellas de las que se espera que tengan un gasto para la sociedad, pero aceptables en vista de los beneficios que podrían aportar si el cambio climático finalmente produce efectos significativos (adaptación), o que tengan un coste neto bajo a precio cero o bajo del carbono (mitigació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9BDC-7D89-4619-A7E9-CD8FBC2C08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edidas justificadas a pesar de la incertidumbre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Medidas "robusta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aquellas que producen beneficios netos o proporcionan buenos resultados en varios escenarios posibles de cambio climático o de precio del carbono y de desarrollo económico (más que simplemente en el "escenario más probable")</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1C14-CCB2-470F-88CD-1A13F476FB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estión adaptativa</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stión adaptativa:</a:t>
            </a:r>
            <a:r>
              <a:rPr b="0" lang="en-GB" sz="2400" spc="-1" strike="noStrike">
                <a:solidFill>
                  <a:srgbClr val="005f7b"/>
                </a:solidFill>
                <a:latin typeface="Verdana"/>
              </a:rPr>
              <a:t> </a:t>
            </a:r>
            <a:r>
              <a:rPr b="0" lang="en-GB" sz="2400" spc="-1" strike="noStrike">
                <a:solidFill>
                  <a:srgbClr val="0f5494"/>
                </a:solidFill>
                <a:latin typeface="Verdana"/>
              </a:rPr>
              <a:t>un tipo de gestión flexible y práctica orientada a mejorar de forma continua las políticas y las prácticas de gestión sobre la base del </a:t>
            </a:r>
            <a:r>
              <a:rPr b="0" lang="ja-JP" sz="2400" spc="-1" strike="noStrike">
                <a:solidFill>
                  <a:srgbClr val="0f5494"/>
                </a:solidFill>
                <a:latin typeface="Verdana"/>
              </a:rPr>
              <a:t>‘</a:t>
            </a:r>
            <a:r>
              <a:rPr b="0" lang="en-GB" sz="2400" spc="-1" strike="noStrike">
                <a:solidFill>
                  <a:srgbClr val="0f5494"/>
                </a:solidFill>
                <a:latin typeface="Verdana"/>
              </a:rPr>
              <a:t>aprendizaje a través de la práctica</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20720" indent="-2772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tiliza proyectos y experimentos piloto; los resultados y las conclusiones se analizan y se extraen lecciones antes de ampliar la escala o ajustar las respuestas</a:t>
            </a:r>
            <a:endParaRPr b="1" lang="en-US" sz="2000" spc="-1" strike="noStrike">
              <a:solidFill>
                <a:srgbClr val="0f5494"/>
              </a:solidFill>
              <a:latin typeface="Verdana"/>
            </a:endParaRPr>
          </a:p>
          <a:p>
            <a:pPr lvl="1" marL="720720" indent="-2772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ucra la robustez como criterio de decisión, la inclusión de márgenes de seguridad en la inversión y la elección de opciones reversibles/flexibles</a:t>
            </a:r>
            <a:endParaRPr b="1" lang="en-US" sz="2000" spc="-1" strike="noStrike">
              <a:solidFill>
                <a:srgbClr val="0f5494"/>
              </a:solidFill>
              <a:latin typeface="Verdana"/>
            </a:endParaRPr>
          </a:p>
          <a:p>
            <a:pPr marL="332640" indent="-33264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decuada para situaciones que planteen incertidumbr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CE73-A1B8-4824-8A43-B34106C355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itulación - Mensajes clav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3000"/>
          </a:bodyPr>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chas incertidumbres prevalecen y persistirán a lo largo de la evolución del clima</a:t>
            </a:r>
            <a:endParaRPr b="0" i="1" lang="en-US" sz="24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binación de incertidumbres socioeconómicas e incertidumbres relacionadas con el clima / limitaciones de los modelos</a:t>
            </a:r>
            <a:endParaRPr b="1" lang="en-US" sz="20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 regionalización de las proyecciones sigue siendo difícil</a:t>
            </a:r>
            <a:endParaRPr b="1" lang="en-US" sz="2000" spc="-1" strike="noStrike">
              <a:solidFill>
                <a:srgbClr val="0f5494"/>
              </a:solidFill>
              <a:latin typeface="Verdana"/>
            </a:endParaRPr>
          </a:p>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s incertidumbres no justifican la inacción</a:t>
            </a:r>
            <a:endParaRPr b="0" i="1" lang="en-US" sz="2400" spc="-1" strike="noStrike">
              <a:solidFill>
                <a:srgbClr val="0f5494"/>
              </a:solidFill>
              <a:latin typeface="Verdana"/>
            </a:endParaRPr>
          </a:p>
          <a:p>
            <a:pPr lvl="1" marL="616680" indent="-2372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uscar medidas sin arrepentimiento, de poco arrepentimiento y robustas</a:t>
            </a:r>
            <a:endParaRPr b="1" lang="en-US" sz="2000" spc="-1" strike="noStrike">
              <a:solidFill>
                <a:srgbClr val="0f5494"/>
              </a:solidFill>
              <a:latin typeface="Verdana"/>
            </a:endParaRPr>
          </a:p>
          <a:p>
            <a:pPr marL="284400" indent="-2844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gestión adaptativa y la planificación basada en escenarios sirven de apoyo para una planificación en condiciones de incertidumbre</a:t>
            </a:r>
            <a:endParaRPr b="0" i="1" lang="en-US" sz="24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A9A-6458-45B3-90D8-69FA02C10F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ibliografía clave</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Fundación Climate Works, Global Environment Facility, Comisión Europea, McKinsey &amp; Company, Fundación Rockfeller, Standard Chartered Bank &amp; Swiss Re. Disponible en: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anco Mundial – Portal de Conocimientos sobre el Cambio Climático: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BDD-6C12-4A9D-A2DA-2EF0872F39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ibliografía</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ambio Climático 2007: Informe de Síntesis. Contribución de los Grupos de Trabajo I, II y II al Cuarto Informe de Evaluación. [Core Writing Team, Pachaury R.K. &amp; Reisinger A. (eds.)]  Grupo Intergubernamental de Expertos sobre el Cambio Climático, Ginebra. Disponible en: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8B17-0BB6-49B5-A460-4074619B51F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Fuentes de incertidumbre en relación con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l cambio climático</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588A-77C0-4723-ABA0-590F9E2951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certidumbres socioeconómica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s incertidumbres socioeconómicas (p.ej. relacionadas con el crecimiento de la población, el crecimiento económico, las elecciones tecnológicas, las elecciones en la sociedad, las relaciones internacionale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yen en el nivel de emisiones futuras y, por tanto, en la magnitud del cambio climático</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antean incertidumbres sobre la futura vulnerabilidad al cambio climático</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CF8C-B55D-416F-AA9A-B3EF979ACF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981000"/>
            <a:ext cx="8893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Escenarios de emisiones de GEI del IPCC</a:t>
            </a:r>
            <a:endParaRPr b="1" lang="en-US" sz="28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07a) 4º Informe de evaluación – Informe de síntesis,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8AB6-38FF-4FE3-B41C-D64FCD8326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certidumbres climática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a cualquier escenario de emisiones concreto, existen varios modelos de circulación general atmósfera-océano (MCGAO) que ofrecen varias proyecciones de cambio en el futuro – en ocasiones muy dispar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bido a la complejidad del sistema climático, muchas incertidumbres prevalecen y persistirán a lo largo de la evolución del clima</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790D-419C-4F0B-9772-9635C8FCF81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as asociados a la </a:t>
            </a:r>
            <a:r>
              <a:rPr b="1" lang="en-GB" sz="2800" spc="-1" strike="noStrike">
                <a:solidFill>
                  <a:srgbClr val="0f5494"/>
                </a:solidFill>
                <a:latin typeface="Verdana"/>
              </a:rPr>
              <a:t>regionalización (</a:t>
            </a:r>
            <a:r>
              <a:rPr b="1" i="1" lang="en-GB" sz="2800" spc="-1" strike="noStrike">
                <a:solidFill>
                  <a:srgbClr val="0f5494"/>
                </a:solidFill>
                <a:latin typeface="Verdana"/>
              </a:rPr>
              <a:t>downscaling</a:t>
            </a:r>
            <a:r>
              <a:rPr b="1" lang="en-GB" sz="2800" spc="-1" strike="noStrike">
                <a:solidFill>
                  <a:srgbClr val="0f5494"/>
                </a:solidFill>
                <a:latin typeface="Verdana"/>
              </a:rPr>
              <a:t>)</a:t>
            </a:r>
            <a:endParaRPr b="1" lang="en-US" sz="28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fontScale="95000"/>
          </a:bodyPr>
          <a:p>
            <a:pPr marL="325800" indent="-3258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os MCGAO ofrecen proyecciones de cambio climático en el futuro para grandes superficies (p.ej. 200x200 km) </a:t>
            </a:r>
            <a:endParaRPr b="0" i="1" lang="en-US" sz="2400" spc="-1" strike="noStrike">
              <a:solidFill>
                <a:srgbClr val="0f5494"/>
              </a:solidFill>
              <a:latin typeface="Verdana"/>
            </a:endParaRPr>
          </a:p>
          <a:p>
            <a:pPr marL="325800" indent="-32580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a regionalización requiere datos y esfuerzos adicionales </a:t>
            </a:r>
            <a:endParaRPr b="0" i="1" lang="en-US" sz="2400" spc="-1" strike="noStrike">
              <a:solidFill>
                <a:srgbClr val="0f5494"/>
              </a:solidFill>
              <a:latin typeface="Verdana"/>
            </a:endParaRPr>
          </a:p>
          <a:p>
            <a:pPr lvl="1" marL="705600" indent="-2714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n los países en desarrollo, muchas veces faltan los datos necesarios para regionalizar proyecciones de cambio climático a nivel local o regional</a:t>
            </a:r>
            <a:endParaRPr b="1" lang="en-US" sz="2000" spc="-1" strike="noStrike">
              <a:solidFill>
                <a:srgbClr val="0f5494"/>
              </a:solidFill>
              <a:latin typeface="Verdana"/>
            </a:endParaRPr>
          </a:p>
          <a:p>
            <a:pPr lvl="1" marL="705600" indent="-2714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nivel de incertidumbre es mayor a niveles regionalizados que a escalas más gener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4C8F-EAA7-448D-9576-FFBB7A6D9C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lanificar a pesar de las incertidumbres del cambio climático</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999B-E075-419B-91D1-67B55B0B25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96A7-CD1C-4DF2-A2E9-FCA9B062EA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GB" sz="2800" spc="-1" strike="noStrike">
                  <a:solidFill>
                    <a:srgbClr val="000000"/>
                  </a:solidFill>
                  <a:latin typeface="Verdana"/>
                </a:rPr>
                <a:t>Cambio Climático</a:t>
              </a:r>
              <a:endParaRPr b="0" lang="en-US" sz="2800" spc="-1" strike="noStrike">
                <a:solidFill>
                  <a:srgbClr val="0f5494"/>
                </a:solidFill>
                <a:latin typeface="Verdana"/>
              </a:endParaRPr>
            </a:p>
          </p:txBody>
        </p:sp>
      </p:grpSp>
      <p:grpSp>
        <p:nvGrpSpPr>
          <p:cNvPr id="123" name="Group 28"/>
          <p:cNvGrpSpPr/>
          <p:nvPr/>
        </p:nvGrpSpPr>
        <p:grpSpPr>
          <a:xfrm>
            <a:off x="4719600" y="1265400"/>
            <a:ext cx="2948040" cy="969840"/>
            <a:chOff x="4719600" y="1265400"/>
            <a:chExt cx="2948040" cy="969840"/>
          </a:xfrm>
        </p:grpSpPr>
        <p:sp>
          <p:nvSpPr>
            <p:cNvPr id="124" name="Rounded Rectangle 29"/>
            <p:cNvSpPr/>
            <p:nvPr/>
          </p:nvSpPr>
          <p:spPr>
            <a:xfrm>
              <a:off x="4782600" y="1265400"/>
              <a:ext cx="275652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5" name="Rounded Rectangle 4"/>
            <p:cNvSpPr/>
            <p:nvPr/>
          </p:nvSpPr>
          <p:spPr>
            <a:xfrm>
              <a:off x="4719600" y="1314360"/>
              <a:ext cx="294804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GB" sz="2000" spc="-1" strike="noStrike">
                  <a:solidFill>
                    <a:srgbClr val="000000"/>
                  </a:solidFill>
                  <a:latin typeface="Verdana"/>
                </a:rPr>
                <a:t>Degradación medioambiental</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ordar el concepto de "riesgo"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GB" sz="3200" spc="-1" strike="noStrike">
                  <a:solidFill>
                    <a:srgbClr val="000000"/>
                  </a:solidFill>
                  <a:latin typeface="Verdana"/>
                </a:rPr>
                <a:t>Probabilidad</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GB" sz="2800" spc="-1" strike="noStrike">
                  <a:solidFill>
                    <a:srgbClr val="000000"/>
                  </a:solidFill>
                  <a:latin typeface="Verdana"/>
                </a:rPr>
                <a:t>Consecuencia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jemplo de matriz de evaluación de riesgo</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DB3A-3FC4-46E6-944F-0CFCCCAD64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441800" y="5527800"/>
            <a:ext cx="3621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eliminar peligro / riesgo</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100160" y="5794200"/>
            <a:ext cx="2879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strar control de riesgo</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700560" y="6060960"/>
            <a:ext cx="6322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Verdana"/>
              </a:rPr>
              <a:t>Zona ALARP: medidas de control normales en el lugar de trabajo</a:t>
            </a:r>
            <a:endParaRPr b="0" lang="en-US" sz="1600" spc="-1" strike="noStrike">
              <a:solidFill>
                <a:srgbClr val="0f5494"/>
              </a:solidFill>
              <a:latin typeface="Verdana"/>
            </a:endParaRPr>
          </a:p>
        </p:txBody>
      </p:sp>
      <p:sp>
        <p:nvSpPr>
          <p:cNvPr id="147" name="Rectangle 9"/>
          <p:cNvSpPr/>
          <p:nvPr/>
        </p:nvSpPr>
        <p:spPr>
          <a:xfrm>
            <a:off x="1391760" y="1654200"/>
            <a:ext cx="577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Verdana"/>
              </a:rPr>
              <a:t>(ALARP): tan bajo como sea razonablemente factible</a:t>
            </a:r>
            <a:endParaRPr b="0" lang="en-US" sz="1800" spc="-1" strike="noStrike">
              <a:solidFill>
                <a:srgbClr val="0f5494"/>
              </a:solidFill>
              <a:latin typeface="Verdana"/>
            </a:endParaRPr>
          </a:p>
        </p:txBody>
      </p:sp>
      <p:sp>
        <p:nvSpPr>
          <p:cNvPr id="148" name="Rectangle 10"/>
          <p:cNvSpPr/>
          <p:nvPr/>
        </p:nvSpPr>
        <p:spPr>
          <a:xfrm>
            <a:off x="5451840" y="5257800"/>
            <a:ext cx="2688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Medidas de prevención</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680240" y="3807000"/>
            <a:ext cx="2632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Medidas de protección</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Palerm </a:t>
            </a:r>
            <a:r>
              <a:rPr b="0" i="1" lang="en-GB" sz="1400" spc="-1" strike="noStrike">
                <a:solidFill>
                  <a:srgbClr val="0f5494"/>
                </a:solidFill>
                <a:latin typeface="Verdana"/>
              </a:rPr>
              <a:t>et al</a:t>
            </a:r>
            <a:r>
              <a:rPr b="0" lang="en-GB"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5-14T15:32:54Z</dcterms:modified>
  <cp:revision>111</cp:revision>
  <dc:subject/>
  <dc:title>Slide 1</dc:title>
</cp:coreProperties>
</file>